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21CA-8980-46C9-8595-2D78A4A1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C76-9F3E-4432-8669-072347DA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8CF-6570-4219-BB01-7BCC2193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9DF-C3A2-49BC-B216-185A1D9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504-2ABB-4765-B507-9103A13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E40-8B4F-4FEC-A299-7CCE5746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1C1-17B3-48A5-876E-E7D04E3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B06-49A4-4352-B97F-B5676B70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FA4-A38C-43FC-8101-C8B478B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81C-AF9B-4DD3-A0A4-76F403A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F31-952E-46D7-B4CC-04BB2EB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5A2-CC1A-4ED4-B57E-91C6128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9B7-4EB6-4D1E-8855-4DE3FB3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451-8C4E-424B-BB0C-1FC82BD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9E8D-5EC6-4054-BB34-115A1043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20574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09880"/>
            <a:ext cx="4876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sha tur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enas  sus tienen una fiesta quieres venir?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anto hente son tu trayendo? Queremos tu venir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khadija zulfiquar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ra. Tu debería modelo, tu teines cuerpo perfecto, tu son alta!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celoso!!! Tu es model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, buena noches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52578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Despertarse !!!  Mi aburrido ! Cuañdo son tu Despertarse?   Nosotras  va la mall 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ces tu queres Venir? Esperamos tu !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51818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¿Cómo estás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a giovanna esta 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irritable !! Puedes venir la ciuda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sotoras So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1:23:17Z</dcterms:created>
  <dc:creator>FriscoISD</dc:creator>
  <dc:description/>
  <dc:language>en-US</dc:language>
  <cp:lastModifiedBy>User</cp:lastModifiedBy>
  <dcterms:modified xsi:type="dcterms:W3CDTF">2013-01-02T14:07:43Z</dcterms:modified>
  <cp:revision>111</cp:revision>
  <dc:subject/>
  <dc:title>Profile</dc:title>
</cp:coreProperties>
</file>